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E23-392C-4FCD-8A22-CEFB2323CFC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5CA-3671-4FE3-A24A-75B07BC95A7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F76D-29A8-4894-8E0D-AE1D467B4BF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70B-A02F-4612-8DB5-1FB5EF53A1F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FDD7-BD1D-49F6-8872-23352F7F69A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B817-A995-47D3-A783-3C4E3DAF400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0A25-3701-49AA-8A6F-E0FAB4E264D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6A7E-DE13-46CE-B155-30EF95BFA14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566-EBB0-446F-A3F7-8D388E2555F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440-F69C-4F06-94B1-E061F46B3A5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890A-E37D-430B-BC43-FF33CC69962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44A8-1DC1-4B61-84CF-99985BF93F3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7F6-FCD3-4EF5-98D0-2B039D24FE0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D16-33EA-47C6-BDA1-63218462A11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1F13-1B65-4F01-A95E-EDE64B584FB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E5E7-D025-4DC2-B2B0-1AD2AAE16A8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B889-5965-40D9-BB33-410F82A688A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250-5C0F-4032-8FDC-633CAAE1BC6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5A9-63C6-4014-BAA0-1AE9EA3CF3F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6CD-FFCD-4194-8FE8-C3CAFB92373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EFA-98E1-4EF8-9E2B-2B45D110280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A18-069F-4059-AD41-AB235FDD151D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EE44-23CD-4576-92DB-24178DDD5D0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9CF-9CD1-41AC-871F-D132C17364F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A789-082B-44D9-93B5-233686D0291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D15C-BA11-43A4-B3D9-6A07F944AC2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5CF-8D2F-4EF3-AD59-F9329E7D0DE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182-47E4-4172-9028-05C94FF180B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53E7-086C-4320-BFFA-919157B9FC6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AD1-5248-4EDF-8198-46EA738B047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0EF-9458-48A9-B7A4-33FC2048946E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FFF3-707A-4F48-A229-CDB8011EEC1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46C5-7DAD-4638-91C4-446EB65408EF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553-EF7F-4ED8-9384-187F3BAB2EE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2C16-30B2-4CF2-9301-F8616573120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3681-2CAE-428B-BF4E-52763B5DE55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FEB6-B487-43BD-802C-85CEA505359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22CE-A826-4718-B831-CA837009D30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D917-6DB4-4BE2-84B7-61C8B1DCDFE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4027-1C70-4682-82DE-225B33F5ADA7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BCD-D78F-4F43-A580-9B1F62D2FC79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119-7E70-42AA-815F-6DFC632A001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E4D7-3B6C-4B91-A41D-BBC97854969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7014-21F7-4C50-A426-8B0860F73D0B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C09D-9EB4-4166-845E-ED6A33A9288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714-F8E8-4D96-9AE9-C2816826DFA4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225E-939F-4B9C-A93E-BD227FD8DCA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4463-B7AA-47FB-8D9D-2F53E16FF26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D5A7-53C5-4CCA-94D2-0309D413A1EC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FFD8-7A63-4A0E-90BA-E5D593807F4A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2CEE-495A-4122-B995-12A9C6F9E6A0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856D-B773-481B-9740-C15C679DB5E8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9CEA-1C5C-4DA1-845E-2E1DD0FE0C83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F99-1EA5-440D-9489-3E4FC2CB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B34-7FD5-49DE-9ECD-F4F15BC1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63D-1234-4666-B93C-6CFF0205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BBE-5F72-454D-AD2A-D92964B8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4C817-5E32-4F38-B07F-06FC722E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0716-11B3-4A33-AFB1-A2279819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F811B-8E80-46DB-9673-0D89332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558AB-BD15-4E13-8FA5-6A9530E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E1B4C-1FA1-4579-87B4-6FFA2F9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63D1-2B38-4C57-8462-7751E452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99453-B6FC-4976-A7F8-EC57266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97F-EC8E-40C8-B48A-A6A406C3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02FE0-C8E7-467A-AF87-F0BDE7A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C4BBF-C4C0-4869-A48C-244C5A5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E8333-5E39-4A44-A835-DEA5DC44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D3F7-26A9-4092-978B-1BB964A7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DCAF2-6340-4399-B8D0-A2F17EC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926-605C-4060-AFB3-14ECE123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92C-731B-4C5C-BF6E-FB9ACE49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311-921F-41E4-B7F7-F00688A6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58D-57AE-41D5-9C4F-EAB9B02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4B1-4044-4224-B507-0384A71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23F-10B2-4A24-96C8-5D0DCA1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629-8143-4C96-AE10-895E027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EEC-09C4-4208-9E46-F3EAD4F8D3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31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40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41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2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3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434-7759-4576-ACFC-F074623EBC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chemheritage.org/EducationalServices/chemach/ppt/lm04.jpg&amp;imgrefurl=http://www.chemheritage.org/EducationalServices/chemach/ppt/lm04.html&amp;h=399&amp;w=300&amp;sz=101&amp;hl=en&amp;start=8&amp;tbnid=l00I_HH9v2VSKM:&amp;tbnh=124&amp;tbnw=93&amp;prev=/images%3Fq%3Dmendeleev%26svnum%3D10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404640"/>
            <a:ext cx="38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95280" y="476280"/>
            <a:ext cx="84247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of the elements on the periodic table make up everything in our wor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periodic table consisting of most of the known elements was developed by a Russian man called Dimitri Mendelev around 1860. He managed to 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the elements in order of weight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ithout sophisticated scient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p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m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9840" y="3500280"/>
            <a:ext cx="2054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easuring in Chemist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1279800"/>
            <a:ext cx="889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baker uses a doze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2) of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 chemist uses a mo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6.0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of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its for Mr are gmo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Moles, Mass and Mr relationshi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5840" y="1627920"/>
            <a:ext cx="89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les/Mass and Mr are all related by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6"/>
              <p:cNvSpPr txBox="1"/>
              <p:nvPr/>
            </p:nvSpPr>
            <p:spPr>
              <a:xfrm>
                <a:off x="1403280" y="2492280"/>
                <a:ext cx="1800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9"/>
          <p:cNvSpPr/>
          <p:nvPr/>
        </p:nvSpPr>
        <p:spPr>
          <a:xfrm>
            <a:off x="324000" y="486900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ere: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 = mass in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r = molar mass (g mo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 = number of mol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5508360" y="2419200"/>
            <a:ext cx="3384720" cy="2670840"/>
            <a:chOff x="5508360" y="2419200"/>
            <a:chExt cx="3384720" cy="2670840"/>
          </a:xfrm>
        </p:grpSpPr>
        <p:sp>
          <p:nvSpPr>
            <p:cNvPr id="174" name="Line 4"/>
            <p:cNvSpPr/>
            <p:nvPr/>
          </p:nvSpPr>
          <p:spPr>
            <a:xfrm flipH="1">
              <a:off x="5508720" y="2419200"/>
              <a:ext cx="12952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>
              <a:off x="6804000" y="2419200"/>
              <a:ext cx="12970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H="1">
              <a:off x="5508360" y="4076640"/>
              <a:ext cx="259236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 flipH="1">
              <a:off x="6156360" y="3282840"/>
              <a:ext cx="129528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 flipH="1">
              <a:off x="6804000" y="3282840"/>
              <a:ext cx="1440" cy="792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6443640" y="27082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6084720" y="3427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6948360" y="34275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7669080" y="27795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8172360" y="270828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6"/>
            <p:cNvSpPr/>
            <p:nvPr/>
          </p:nvSpPr>
          <p:spPr>
            <a:xfrm>
              <a:off x="8172360" y="299556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7956720" y="2924280"/>
              <a:ext cx="57600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H="1">
              <a:off x="7597800" y="3067200"/>
              <a:ext cx="2872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6588000" y="450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 flipV="1">
              <a:off x="6804000" y="4147920"/>
              <a:ext cx="144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Moles,Mass and Mr relationshi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2725920"/>
            <a:ext cx="889308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Using this relationship we are able to work o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oles of a substance given the mass and 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ss of a substance given the number of moles and 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Even the Mr of a substance given the mass and number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3348000" y="1197000"/>
                <a:ext cx="1800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of Ca in 50 grams of the met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780000" y="3141720"/>
                <a:ext cx="31683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Text Box 10"/>
          <p:cNvSpPr/>
          <p:nvPr/>
        </p:nvSpPr>
        <p:spPr>
          <a:xfrm>
            <a:off x="3059280" y="4941720"/>
            <a:ext cx="58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1.2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1.25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in 8 grams of oxygen gas (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5"/>
              <p:cNvSpPr txBox="1"/>
              <p:nvPr/>
            </p:nvSpPr>
            <p:spPr>
              <a:xfrm>
                <a:off x="3992400" y="3141720"/>
                <a:ext cx="27417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6"/>
          <p:cNvSpPr/>
          <p:nvPr/>
        </p:nvSpPr>
        <p:spPr>
          <a:xfrm>
            <a:off x="3059280" y="4941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0.250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nd the number of moles in 12 grams of carbon dioxide gas (C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1042920" y="3068640"/>
                <a:ext cx="165744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4062240" y="3176640"/>
                <a:ext cx="26006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g mol 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Text Box 6"/>
          <p:cNvSpPr/>
          <p:nvPr/>
        </p:nvSpPr>
        <p:spPr>
          <a:xfrm>
            <a:off x="3059280" y="4941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n = 0.273 moles (3s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Arial"/>
              </a:rPr>
              <a:t>Starter Questions – Using your periodic table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900000" y="1557360"/>
            <a:ext cx="755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this means that one mole of 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has a mass of 44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9960" y="909720"/>
            <a:ext cx="47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 (Mr) for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826920" y="2781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this means that one mole of Na has a mass of 23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38200" y="22320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atomic mass (Ar) for 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64008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23) + 12 + (3 x 16) = 106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2600" y="5950080"/>
            <a:ext cx="524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 (Mr) for 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6877080" y="350028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1.5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12720" y="35002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atomic mass of 0.5 mole of Na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7020000" y="429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.3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684360" y="429264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ass of 0.1 mole of Na 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5423760" y="9097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2 + (2 x 16) = 44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5448960" y="22050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3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0" y="486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ughie? :How many Na atoms are there in 0.1 mol of Na me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1080720" y="5373720"/>
            <a:ext cx="58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0.1 x  6.02 x 10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23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= 6.02 x 10 </a:t>
            </a:r>
            <a:r>
              <a:rPr b="0" lang="en-NZ" sz="2400" spc="-1" strike="noStrike" baseline="30000">
                <a:solidFill>
                  <a:srgbClr val="66ff33"/>
                </a:solidFill>
                <a:latin typeface="Arial"/>
              </a:rPr>
              <a:t>2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Na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Moles, Mass and Mr relationshi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63000" y="112500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les/Mass and Mr are all rela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at formul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900000" y="2708280"/>
                <a:ext cx="288144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Rectangle 9"/>
          <p:cNvSpPr/>
          <p:nvPr/>
        </p:nvSpPr>
        <p:spPr>
          <a:xfrm>
            <a:off x="682560" y="4508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here: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 = mass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r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5508360" y="2419200"/>
            <a:ext cx="3384720" cy="2670840"/>
            <a:chOff x="5508360" y="2419200"/>
            <a:chExt cx="3384720" cy="2670840"/>
          </a:xfrm>
        </p:grpSpPr>
        <p:sp>
          <p:nvSpPr>
            <p:cNvPr id="227" name="Line 4"/>
            <p:cNvSpPr/>
            <p:nvPr/>
          </p:nvSpPr>
          <p:spPr>
            <a:xfrm flipH="1">
              <a:off x="5508720" y="2419200"/>
              <a:ext cx="12952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6804000" y="2419200"/>
              <a:ext cx="1297080" cy="1657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H="1">
              <a:off x="5508360" y="4076640"/>
              <a:ext cx="259236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 flipH="1">
              <a:off x="6156360" y="3282840"/>
              <a:ext cx="1295280" cy="1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 flipH="1">
              <a:off x="6804000" y="3282840"/>
              <a:ext cx="1440" cy="792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6443640" y="27082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6084720" y="34275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NZ" sz="3200" spc="-1" strike="noStrike">
                  <a:solidFill>
                    <a:srgbClr val="ffff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6948360" y="34275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M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7669080" y="2779560"/>
              <a:ext cx="122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8172360" y="270828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8172360" y="2995560"/>
              <a:ext cx="144720" cy="144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7956720" y="2924280"/>
              <a:ext cx="576000" cy="14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H="1">
              <a:off x="7597800" y="3067200"/>
              <a:ext cx="287280" cy="144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2"/>
            <p:cNvSpPr/>
            <p:nvPr/>
          </p:nvSpPr>
          <p:spPr>
            <a:xfrm>
              <a:off x="6588000" y="450864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ff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 flipV="1">
              <a:off x="6804000" y="4147920"/>
              <a:ext cx="144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2856600" y="49402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1560960" y="537372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olar mass (gmol</a:t>
            </a:r>
            <a:r>
              <a:rPr b="1" lang="en-US" sz="2800" spc="-1" strike="noStrike" baseline="30000">
                <a:solidFill>
                  <a:srgbClr val="66ff33"/>
                </a:solidFill>
                <a:latin typeface="Comic Sans MS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771480" y="580536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1547640" y="5805360"/>
            <a:ext cx="301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number of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0" y="260280"/>
            <a:ext cx="91440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will use a grid to help in calculations. These become very helpful with complicated questions - just fill what you know then use this to work out your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- iron oxide (F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is used in the production of iron. How many moles of iron oxide would there be in 200 gra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11280" y="3524400"/>
          <a:ext cx="7848360" cy="3333600"/>
        </p:xfrm>
        <a:graphic>
          <a:graphicData uri="http://schemas.openxmlformats.org/drawingml/2006/table">
            <a:tbl>
              <a:tblPr/>
              <a:tblGrid>
                <a:gridCol w="2376360"/>
                <a:gridCol w="5472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8" name="Object 28"/>
              <p:cNvSpPr txBox="1"/>
              <p:nvPr/>
            </p:nvSpPr>
            <p:spPr>
              <a:xfrm>
                <a:off x="1258920" y="4964040"/>
                <a:ext cx="122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Rectangle 35"/>
          <p:cNvSpPr/>
          <p:nvPr/>
        </p:nvSpPr>
        <p:spPr>
          <a:xfrm>
            <a:off x="1442520" y="618804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5124240" y="3668760"/>
            <a:ext cx="10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Fe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1"/>
          <p:cNvSpPr/>
          <p:nvPr/>
        </p:nvSpPr>
        <p:spPr>
          <a:xfrm>
            <a:off x="4427640" y="51800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3700080" y="6145200"/>
            <a:ext cx="194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200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4"/>
              <p:cNvSpPr txBox="1"/>
              <p:nvPr/>
            </p:nvSpPr>
            <p:spPr>
              <a:xfrm>
                <a:off x="3780000" y="5037120"/>
                <a:ext cx="1592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46"/>
          <p:cNvSpPr/>
          <p:nvPr/>
        </p:nvSpPr>
        <p:spPr>
          <a:xfrm>
            <a:off x="5362560" y="52531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= 1.25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8"/>
          <p:cNvSpPr/>
          <p:nvPr/>
        </p:nvSpPr>
        <p:spPr>
          <a:xfrm>
            <a:off x="3067200" y="438768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(2 x 56) + (3 x 16) = 160 gmol 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684360" y="270828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Arial"/>
              </a:rPr>
              <a:t>Copy out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260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n industrial operations large quantit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 - How many moles of iron oxide would there be in 1 tonne (1000kgs)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2720" y="2924280"/>
          <a:ext cx="7848720" cy="3333600"/>
        </p:xfrm>
        <a:graphic>
          <a:graphicData uri="http://schemas.openxmlformats.org/drawingml/2006/table">
            <a:tbl>
              <a:tblPr/>
              <a:tblGrid>
                <a:gridCol w="2376720"/>
                <a:gridCol w="54720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20"/>
              <p:cNvSpPr txBox="1"/>
              <p:nvPr/>
            </p:nvSpPr>
            <p:spPr>
              <a:xfrm>
                <a:off x="1260360" y="4363920"/>
                <a:ext cx="1224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Rectangle 21"/>
          <p:cNvSpPr/>
          <p:nvPr/>
        </p:nvSpPr>
        <p:spPr>
          <a:xfrm>
            <a:off x="1443960" y="558792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5125680" y="3068640"/>
            <a:ext cx="107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Fe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O</a:t>
            </a:r>
            <a:r>
              <a:rPr b="0" lang="en-NZ" sz="2800" spc="-1" strike="noStrike" baseline="-25000">
                <a:solidFill>
                  <a:srgbClr val="00ff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44290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3123720" y="5589720"/>
            <a:ext cx="52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1000kg x 1000 = 1 x 10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6</a:t>
            </a: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5"/>
              <p:cNvSpPr txBox="1"/>
              <p:nvPr/>
            </p:nvSpPr>
            <p:spPr>
              <a:xfrm>
                <a:off x="3419640" y="4437000"/>
                <a:ext cx="1989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x 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0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Text Box 26"/>
          <p:cNvSpPr/>
          <p:nvPr/>
        </p:nvSpPr>
        <p:spPr>
          <a:xfrm>
            <a:off x="5364000" y="4653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= 6,250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3069000" y="3787920"/>
            <a:ext cx="51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cc"/>
                </a:solidFill>
                <a:latin typeface="Comic Sans MS"/>
              </a:rPr>
              <a:t>(2 x 56) + (3 x 16) = 160 gmol </a:t>
            </a:r>
            <a:r>
              <a:rPr b="0" lang="en-NZ" sz="28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468360" y="206064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Arial"/>
              </a:rPr>
              <a:t>Copy out the g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Mendeleev'sPeriodic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42920" y="40464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Comic Sans MS"/>
              </a:rPr>
              <a:t>Mendeleevs First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260280"/>
            <a:ext cx="914400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How to work out the % of an element in a comp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% of Fe is there in Fe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5"/>
              <p:cNvSpPr txBox="1"/>
              <p:nvPr/>
            </p:nvSpPr>
            <p:spPr>
              <a:xfrm>
                <a:off x="1714680" y="2357280"/>
                <a:ext cx="3857400" cy="26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F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 2Fe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 F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TextBox 14"/>
          <p:cNvSpPr/>
          <p:nvPr/>
        </p:nvSpPr>
        <p:spPr>
          <a:xfrm>
            <a:off x="285840" y="5214960"/>
            <a:ext cx="8286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How much iron would you get from 100kgs of Fe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NZ" sz="28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0.7  x  100  = 70kg of i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84360" y="141300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708360" y="162864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0" y="2133720"/>
            <a:ext cx="9144000" cy="45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above reaction rea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 amount of Ca reacts with 1 amount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to give 1 amount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1 amount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(we don’t usually put in the ones – but if we did it would look like t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The amount we use is the 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Now the reaction rea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 mole of Ca reacts with 1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to give 1 mole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1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470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05308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5366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166160" y="141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20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0" y="1125360"/>
            <a:ext cx="84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3708360" y="1341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773360"/>
            <a:ext cx="914400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we have 1 mole of Ca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 are needed to fully react the Ca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we had 0.5 mole of Ca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would be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If 0.5 mole of Ca reacted with 0.5 mole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how many moles of CaSO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and how many moles of H</a:t>
            </a:r>
            <a:r>
              <a:rPr b="1" lang="en-NZ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 gas are forme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159960" y="285264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: 1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782880" y="393372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: 0.5 m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913680" y="5950080"/>
            <a:ext cx="430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Ans : 0.5 mole of H</a:t>
            </a:r>
            <a:r>
              <a:rPr b="1" lang="en-NZ" sz="2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 g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5305680" y="5950080"/>
            <a:ext cx="321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cc"/>
                </a:solidFill>
                <a:latin typeface="Arial"/>
              </a:rPr>
              <a:t>0.5 mole of CaSO</a:t>
            </a:r>
            <a:r>
              <a:rPr b="1" lang="en-NZ" sz="28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84360" y="112536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    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3708360" y="1341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0" y="1557360"/>
            <a:ext cx="914400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If 0.5 mole of Ca reacted with 0.5 mole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how many moles of CaS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and  how many moles of H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gas are forme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761400" y="3284640"/>
            <a:ext cx="37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Ans : 0.5 mole of H</a:t>
            </a:r>
            <a:r>
              <a:rPr b="1" lang="en-NZ" sz="2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 g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4578840" y="3284640"/>
            <a:ext cx="278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cc"/>
                </a:solidFill>
                <a:latin typeface="Arial"/>
              </a:rPr>
              <a:t>0.5 mole of CaSO</a:t>
            </a:r>
            <a:r>
              <a:rPr b="1" lang="en-NZ" sz="24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179280" y="3844800"/>
            <a:ext cx="8209080" cy="31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the Ar (atomic mass) val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 = 1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Ca = 40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S = 32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O =16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olar masses (Mr)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, 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n use these and the mole (n) formula to work out the mass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gas and the mass of Ca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form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(Hint you will need to rearrange the formu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Reading Equations using Mol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684360" y="112536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CO                       2Fe    +     2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3851280" y="141300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0" y="155736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If  200kg of  Fe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 is reacted in the above equation what mass of Fe is produced?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5"/>
              <p:cNvSpPr txBox="1"/>
              <p:nvPr/>
            </p:nvSpPr>
            <p:spPr>
              <a:xfrm>
                <a:off x="1571760" y="3286080"/>
                <a:ext cx="5173560" cy="26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F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r 2Fe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 F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g F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500040" y="1571760"/>
          <a:ext cx="8229600" cy="4259160"/>
        </p:xfrm>
        <a:graphic>
          <a:graphicData uri="http://schemas.openxmlformats.org/drawingml/2006/table">
            <a:tbl>
              <a:tblPr/>
              <a:tblGrid>
                <a:gridCol w="1800360"/>
                <a:gridCol w="4103640"/>
                <a:gridCol w="23256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Text Box 3"/>
          <p:cNvSpPr/>
          <p:nvPr/>
        </p:nvSpPr>
        <p:spPr>
          <a:xfrm>
            <a:off x="428760" y="1071720"/>
            <a:ext cx="777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       +     2 H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g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rk out how many moles of HCl is used to completely react 60grams of Mg metal in the following reaction?   Draw g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77"/>
              <p:cNvSpPr txBox="1"/>
              <p:nvPr/>
            </p:nvSpPr>
            <p:spPr>
              <a:xfrm>
                <a:off x="785880" y="385776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3627000" y="1917720"/>
            <a:ext cx="6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3063600" y="32860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6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2571840" y="3929040"/>
                <a:ext cx="1636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83"/>
          <p:cNvSpPr/>
          <p:nvPr/>
        </p:nvSpPr>
        <p:spPr>
          <a:xfrm>
            <a:off x="4143240" y="4071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2.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32814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2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7221600" y="192888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89"/>
          <p:cNvSpPr/>
          <p:nvPr/>
        </p:nvSpPr>
        <p:spPr>
          <a:xfrm>
            <a:off x="6714000" y="25718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36.5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43"/>
          <p:cNvSpPr/>
          <p:nvPr/>
        </p:nvSpPr>
        <p:spPr>
          <a:xfrm>
            <a:off x="928800" y="53578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x moles of Mg    =  moles of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44"/>
          <p:cNvSpPr/>
          <p:nvPr/>
        </p:nvSpPr>
        <p:spPr>
          <a:xfrm>
            <a:off x="928800" y="6072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x 2.5 moles       =   5 moles of H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was the mass of HCl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214800" y="107172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TextBox 22"/>
          <p:cNvSpPr/>
          <p:nvPr/>
        </p:nvSpPr>
        <p:spPr>
          <a:xfrm>
            <a:off x="642960" y="2357280"/>
            <a:ext cx="728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 = 5 x 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5 mol x   36.5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182.5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 182 g (3s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Sherbe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214200" y="1143000"/>
            <a:ext cx="892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+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7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 tartarate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 + 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Straight Arrow Connector 5"/>
          <p:cNvCxnSpPr/>
          <p:nvPr/>
        </p:nvCxnSpPr>
        <p:spPr>
          <a:xfrm>
            <a:off x="4500720" y="1356840"/>
            <a:ext cx="357840" cy="2520"/>
          </a:xfrm>
          <a:prstGeom prst="straightConnector1">
            <a:avLst/>
          </a:prstGeom>
          <a:ln w="38160">
            <a:solidFill>
              <a:srgbClr val="2d95fe"/>
            </a:solidFill>
            <a:miter/>
            <a:tailEnd len="med" type="arrow" w="med"/>
          </a:ln>
        </p:spPr>
      </p:cxnSp>
      <p:sp>
        <p:nvSpPr>
          <p:cNvPr id="324" name="TextBox 6"/>
          <p:cNvSpPr/>
          <p:nvPr/>
        </p:nvSpPr>
        <p:spPr>
          <a:xfrm>
            <a:off x="0" y="714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herbet balanced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8"/>
          <p:cNvSpPr/>
          <p:nvPr/>
        </p:nvSpPr>
        <p:spPr>
          <a:xfrm>
            <a:off x="1785960" y="1571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rta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3357720" y="1571760"/>
            <a:ext cx="15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i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10"/>
          <p:cNvSpPr/>
          <p:nvPr/>
        </p:nvSpPr>
        <p:spPr>
          <a:xfrm>
            <a:off x="4929120" y="15717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Sherb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0" y="24289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1 gram of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H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work out how much of each ingred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2928960"/>
          <a:ext cx="8929800" cy="3929040"/>
        </p:xfrm>
        <a:graphic>
          <a:graphicData uri="http://schemas.openxmlformats.org/drawingml/2006/table">
            <a:tbl>
              <a:tblPr/>
              <a:tblGrid>
                <a:gridCol w="2071800"/>
                <a:gridCol w="3071880"/>
                <a:gridCol w="1857240"/>
                <a:gridCol w="19288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13"/>
          <p:cNvSpPr/>
          <p:nvPr/>
        </p:nvSpPr>
        <p:spPr>
          <a:xfrm>
            <a:off x="2588040" y="3143160"/>
            <a:ext cx="134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NaH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4"/>
          <p:cNvSpPr/>
          <p:nvPr/>
        </p:nvSpPr>
        <p:spPr>
          <a:xfrm>
            <a:off x="5072040" y="3143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Tarta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7008480" y="31431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Cit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7"/>
          <p:cNvSpPr/>
          <p:nvPr/>
        </p:nvSpPr>
        <p:spPr>
          <a:xfrm>
            <a:off x="725040" y="385776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7"/>
          <p:cNvSpPr/>
          <p:nvPr/>
        </p:nvSpPr>
        <p:spPr>
          <a:xfrm>
            <a:off x="157680" y="55008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olar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3214800" y="5500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5643720" y="55008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7715160" y="550080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2000160" y="4500720"/>
                <a:ext cx="1295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4gmo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357120" y="4500720"/>
                <a:ext cx="1073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0" name="TextBox 25"/>
          <p:cNvSpPr/>
          <p:nvPr/>
        </p:nvSpPr>
        <p:spPr>
          <a:xfrm>
            <a:off x="3214800" y="4643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= 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84"/>
          <p:cNvSpPr/>
          <p:nvPr/>
        </p:nvSpPr>
        <p:spPr>
          <a:xfrm>
            <a:off x="2567160" y="38577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8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4"/>
          <p:cNvSpPr/>
          <p:nvPr/>
        </p:nvSpPr>
        <p:spPr>
          <a:xfrm>
            <a:off x="5121000" y="38577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50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4"/>
          <p:cNvSpPr/>
          <p:nvPr/>
        </p:nvSpPr>
        <p:spPr>
          <a:xfrm>
            <a:off x="7095960" y="385776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91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7"/>
          <p:cNvSpPr/>
          <p:nvPr/>
        </p:nvSpPr>
        <p:spPr>
          <a:xfrm>
            <a:off x="-4320" y="614376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 = n x 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30"/>
          <p:cNvSpPr/>
          <p:nvPr/>
        </p:nvSpPr>
        <p:spPr>
          <a:xfrm>
            <a:off x="5072040" y="6143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0.0119 x 1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= 1.785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7000920" y="614376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0.0119 x 1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= 2.273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34"/>
          <p:cNvSpPr/>
          <p:nvPr/>
        </p:nvSpPr>
        <p:spPr>
          <a:xfrm>
            <a:off x="5072040" y="4643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35"/>
          <p:cNvSpPr/>
          <p:nvPr/>
        </p:nvSpPr>
        <p:spPr>
          <a:xfrm>
            <a:off x="6929280" y="46432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0.0119 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36"/>
          <p:cNvSpPr/>
          <p:nvPr/>
        </p:nvSpPr>
        <p:spPr>
          <a:xfrm>
            <a:off x="3143160" y="62150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500040" y="1571760"/>
          <a:ext cx="8229600" cy="4259160"/>
        </p:xfrm>
        <a:graphic>
          <a:graphicData uri="http://schemas.openxmlformats.org/drawingml/2006/table">
            <a:tbl>
              <a:tblPr/>
              <a:tblGrid>
                <a:gridCol w="1800360"/>
                <a:gridCol w="4103640"/>
                <a:gridCol w="232560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Text Box 3"/>
          <p:cNvSpPr/>
          <p:nvPr/>
        </p:nvSpPr>
        <p:spPr>
          <a:xfrm>
            <a:off x="395280" y="1052640"/>
            <a:ext cx="777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   2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2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rk out how many moles of carbon dioxide is created when  100grams of oxygen is reacted in the following reaction?  Draw gr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77"/>
              <p:cNvSpPr txBox="1"/>
              <p:nvPr/>
            </p:nvSpPr>
            <p:spPr>
              <a:xfrm>
                <a:off x="785880" y="385776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3038760" y="3286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0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82"/>
              <p:cNvSpPr txBox="1"/>
              <p:nvPr/>
            </p:nvSpPr>
            <p:spPr>
              <a:xfrm>
                <a:off x="2535120" y="3905280"/>
                <a:ext cx="171000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Text Box 83"/>
          <p:cNvSpPr/>
          <p:nvPr/>
        </p:nvSpPr>
        <p:spPr>
          <a:xfrm>
            <a:off x="4143240" y="4071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3.12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32742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32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89"/>
          <p:cNvSpPr/>
          <p:nvPr/>
        </p:nvSpPr>
        <p:spPr>
          <a:xfrm>
            <a:off x="670320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44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43"/>
          <p:cNvSpPr/>
          <p:nvPr/>
        </p:nvSpPr>
        <p:spPr>
          <a:xfrm>
            <a:off x="928800" y="5357880"/>
            <a:ext cx="785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½  x moles of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=  moles of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44"/>
          <p:cNvSpPr/>
          <p:nvPr/>
        </p:nvSpPr>
        <p:spPr>
          <a:xfrm>
            <a:off x="393840" y="5877000"/>
            <a:ext cx="87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½  x 3.125 moles     =   1.5625 moles of 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49"/>
          <p:cNvSpPr/>
          <p:nvPr/>
        </p:nvSpPr>
        <p:spPr>
          <a:xfrm>
            <a:off x="7104240" y="1851120"/>
            <a:ext cx="71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51"/>
          <p:cNvSpPr/>
          <p:nvPr/>
        </p:nvSpPr>
        <p:spPr>
          <a:xfrm>
            <a:off x="3648960" y="185112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3"/>
          <p:cNvSpPr/>
          <p:nvPr/>
        </p:nvSpPr>
        <p:spPr>
          <a:xfrm>
            <a:off x="179280" y="6381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ould you give this answ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54"/>
          <p:cNvSpPr/>
          <p:nvPr/>
        </p:nvSpPr>
        <p:spPr>
          <a:xfrm>
            <a:off x="4427640" y="6400800"/>
            <a:ext cx="42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1.56 moles of C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 (3 sig fi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571680" y="285840"/>
            <a:ext cx="73580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Empirical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is the simplest ratio of atoms in a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xample the empirical formula for ethane  C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6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s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42960" y="3000240"/>
            <a:ext cx="580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 butane 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10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377400" y="3000240"/>
            <a:ext cx="8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714240" y="3643200"/>
            <a:ext cx="580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methane C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442200" y="36432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57120" y="4286160"/>
            <a:ext cx="757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the empirical formula for hydrogen peroxide 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7576200" y="4286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285840" y="214200"/>
            <a:ext cx="80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197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All atoms were measured against Carbon. The carbon atom was assigned an atomic mass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900000" y="2421000"/>
            <a:ext cx="1511280" cy="1871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332000" y="277956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7636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332000" y="3500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 flipH="1">
            <a:off x="1907640" y="378936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132000" y="3645000"/>
            <a:ext cx="601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s tell us that each carbon atom has a mass of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t also tells us the number of protons and neu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285840" y="55008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Carbon is 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1"/>
          <p:cNvSpPr/>
          <p:nvPr/>
        </p:nvSpPr>
        <p:spPr>
          <a:xfrm>
            <a:off x="571680" y="285840"/>
            <a:ext cx="821520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olecular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molecular formula of a compound is the formula giving the actual number of atoms in a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e will be asked to find the molecular formula given % mass of a comp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28760" y="3214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example find the molecular formula for a compound which was found to contain 80% carbon and 20%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142920" y="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xample: finding the empirical formula for a compound that was found to contain 80% carbon and 20% hydr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4572000" y="928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7143840" y="928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4503240" y="164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80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7074720" y="15717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0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78480" y="24289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2857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each element by its Ar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142920" y="1428840"/>
            <a:ext cx="40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imply convert each % to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222120" y="100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4168800" y="2781360"/>
                <a:ext cx="22064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6919920" y="2786040"/>
                <a:ext cx="13762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Rectangle 12"/>
          <p:cNvSpPr/>
          <p:nvPr/>
        </p:nvSpPr>
        <p:spPr>
          <a:xfrm>
            <a:off x="151200" y="37148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0" y="4143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smaller numb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divide each of thes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5357880" y="2857680"/>
            <a:ext cx="928800" cy="8571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"/>
              <p:cNvSpPr txBox="1"/>
              <p:nvPr/>
            </p:nvSpPr>
            <p:spPr>
              <a:xfrm>
                <a:off x="4038480" y="4286160"/>
                <a:ext cx="2208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6224760" y="4357800"/>
                <a:ext cx="27795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6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Box 17"/>
          <p:cNvSpPr/>
          <p:nvPr/>
        </p:nvSpPr>
        <p:spPr>
          <a:xfrm>
            <a:off x="0" y="56577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 this is the empirical formula for the compound just write out the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292320" y="5357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857840" y="585792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 x C                   3 x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6081840" y="639612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Straight Arrow Connector 22"/>
          <p:cNvCxnSpPr>
            <a:endCxn id="399" idx="1"/>
          </p:cNvCxnSpPr>
          <p:nvPr/>
        </p:nvCxnSpPr>
        <p:spPr>
          <a:xfrm>
            <a:off x="5500440" y="6283440"/>
            <a:ext cx="572040" cy="342000"/>
          </a:xfrm>
          <a:prstGeom prst="straightConnector1">
            <a:avLst/>
          </a:prstGeom>
          <a:ln w="25560">
            <a:solidFill>
              <a:srgbClr val="2d95fe"/>
            </a:solidFill>
            <a:miter/>
            <a:tailEnd len="med" type="triangle" w="med"/>
          </a:ln>
        </p:spPr>
      </p:cxnSp>
      <p:cxnSp>
        <p:nvCxnSpPr>
          <p:cNvPr id="401" name="Straight Arrow Connector 23"/>
          <p:cNvCxnSpPr/>
          <p:nvPr/>
        </p:nvCxnSpPr>
        <p:spPr>
          <a:xfrm flipH="1">
            <a:off x="6786000" y="6213960"/>
            <a:ext cx="500760" cy="423000"/>
          </a:xfrm>
          <a:prstGeom prst="straightConnector1">
            <a:avLst/>
          </a:prstGeom>
          <a:ln w="25560">
            <a:solidFill>
              <a:srgbClr val="2d95f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85840" y="1429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xample : Now fin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 molecular formula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or the compound that was found to contain 80% carbon and 20% hydro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Given that the compound was found to have a molar mass of 30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142920" y="1928880"/>
            <a:ext cx="9001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five: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empirical formula you just found ie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nd follow the method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ix 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your given molar mass by the molar mas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1143000" y="3500280"/>
                <a:ext cx="3948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ven molar 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empirical formula molar mas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5497560" y="3429000"/>
                <a:ext cx="2039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5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Box 6"/>
          <p:cNvSpPr/>
          <p:nvPr/>
        </p:nvSpPr>
        <p:spPr>
          <a:xfrm>
            <a:off x="214200" y="4643280"/>
            <a:ext cx="792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even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multiply your empirical formula by 2 to get the molecular formula -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2 x C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3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35280" y="435600"/>
            <a:ext cx="907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compound was found to have a % compos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f 2.0% Hydrogen, 32.7% Sulfur, 65.3%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ind the empiric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2"/>
          <p:cNvSpPr/>
          <p:nvPr/>
        </p:nvSpPr>
        <p:spPr>
          <a:xfrm>
            <a:off x="78580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3071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715880" y="142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65.3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431880" y="1428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8120" y="24289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divide each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 its Ar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0" y="14288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imply convert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% to 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220680" y="10000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149400" y="37148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0" y="414324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hat i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umber? Now div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ach of these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4"/>
          <p:cNvSpPr/>
          <p:nvPr/>
        </p:nvSpPr>
        <p:spPr>
          <a:xfrm>
            <a:off x="6072120" y="2643120"/>
            <a:ext cx="1071720" cy="85716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7"/>
          <p:cNvSpPr/>
          <p:nvPr/>
        </p:nvSpPr>
        <p:spPr>
          <a:xfrm>
            <a:off x="0" y="5842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round and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rite out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8"/>
          <p:cNvSpPr/>
          <p:nvPr/>
        </p:nvSpPr>
        <p:spPr>
          <a:xfrm>
            <a:off x="291960" y="55008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169040" y="2724120"/>
                <a:ext cx="19972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7"/>
              <p:cNvSpPr txBox="1"/>
              <p:nvPr/>
            </p:nvSpPr>
            <p:spPr>
              <a:xfrm>
                <a:off x="3214800" y="2786040"/>
                <a:ext cx="10382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72040" y="4214880"/>
                <a:ext cx="2044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2571840" y="4214880"/>
                <a:ext cx="249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8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Rectangle 1"/>
          <p:cNvSpPr/>
          <p:nvPr/>
        </p:nvSpPr>
        <p:spPr>
          <a:xfrm>
            <a:off x="166320" y="2160"/>
            <a:ext cx="85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compound was found to have a % compos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2.0% Hydrogen, 32.7% Sulfur, 65.3% Oxygen find the 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traight Connector 29"/>
          <p:cNvSpPr/>
          <p:nvPr/>
        </p:nvSpPr>
        <p:spPr>
          <a:xfrm flipH="1">
            <a:off x="2642760" y="928800"/>
            <a:ext cx="1800" cy="5429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traight Connector 30"/>
          <p:cNvSpPr/>
          <p:nvPr/>
        </p:nvSpPr>
        <p:spPr>
          <a:xfrm flipH="1">
            <a:off x="5143680" y="857160"/>
            <a:ext cx="1440" cy="55008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5357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5432760" y="1500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32.7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10"/>
              <p:cNvSpPr txBox="1"/>
              <p:nvPr/>
            </p:nvSpPr>
            <p:spPr>
              <a:xfrm>
                <a:off x="5072040" y="2786040"/>
                <a:ext cx="2060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1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1"/>
              <p:cNvSpPr txBox="1"/>
              <p:nvPr/>
            </p:nvSpPr>
            <p:spPr>
              <a:xfrm>
                <a:off x="7618320" y="4286160"/>
                <a:ext cx="1197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1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87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2" name="TextBox 35"/>
          <p:cNvSpPr/>
          <p:nvPr/>
        </p:nvSpPr>
        <p:spPr>
          <a:xfrm>
            <a:off x="757224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7"/>
          <p:cNvSpPr/>
          <p:nvPr/>
        </p:nvSpPr>
        <p:spPr>
          <a:xfrm>
            <a:off x="542916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38"/>
          <p:cNvSpPr/>
          <p:nvPr/>
        </p:nvSpPr>
        <p:spPr>
          <a:xfrm>
            <a:off x="307188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9"/>
          <p:cNvSpPr/>
          <p:nvPr/>
        </p:nvSpPr>
        <p:spPr>
          <a:xfrm flipH="1">
            <a:off x="7214760" y="785880"/>
            <a:ext cx="1800" cy="5572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8"/>
          <p:cNvSpPr/>
          <p:nvPr/>
        </p:nvSpPr>
        <p:spPr>
          <a:xfrm>
            <a:off x="5929200" y="639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3582360" y="63658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1"/>
          <p:cNvSpPr/>
          <p:nvPr/>
        </p:nvSpPr>
        <p:spPr>
          <a:xfrm>
            <a:off x="8010360" y="6396120"/>
            <a:ext cx="51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19080" y="149760"/>
            <a:ext cx="898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 sample with composition 40% C,  6.7% H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3.3% O had a molar mass 60 g mol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mpirical formula and also the molecular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2"/>
          <p:cNvSpPr/>
          <p:nvPr/>
        </p:nvSpPr>
        <p:spPr>
          <a:xfrm>
            <a:off x="78580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3071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718760" y="14288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53.3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432240" y="1428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40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78120" y="242892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0" y="28576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divide each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by its Ar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0" y="142884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imply convert e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% to 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20680" y="100008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149400" y="371484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0" y="414324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hat is the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umber? Now div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ach of these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17"/>
          <p:cNvSpPr/>
          <p:nvPr/>
        </p:nvSpPr>
        <p:spPr>
          <a:xfrm>
            <a:off x="0" y="58420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Now round and ju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write out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291960" y="55008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9"/>
          <p:cNvSpPr/>
          <p:nvPr/>
        </p:nvSpPr>
        <p:spPr>
          <a:xfrm flipH="1">
            <a:off x="2571840" y="928800"/>
            <a:ext cx="1440" cy="5429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30"/>
          <p:cNvSpPr/>
          <p:nvPr/>
        </p:nvSpPr>
        <p:spPr>
          <a:xfrm flipH="1">
            <a:off x="5072040" y="857160"/>
            <a:ext cx="1440" cy="55008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5357880" y="857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5646960" y="1428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6.7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5"/>
          <p:cNvSpPr/>
          <p:nvPr/>
        </p:nvSpPr>
        <p:spPr>
          <a:xfrm>
            <a:off x="757224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Box 37"/>
          <p:cNvSpPr/>
          <p:nvPr/>
        </p:nvSpPr>
        <p:spPr>
          <a:xfrm>
            <a:off x="5429160" y="5786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38"/>
          <p:cNvSpPr/>
          <p:nvPr/>
        </p:nvSpPr>
        <p:spPr>
          <a:xfrm>
            <a:off x="3071880" y="5786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39"/>
          <p:cNvSpPr/>
          <p:nvPr/>
        </p:nvSpPr>
        <p:spPr>
          <a:xfrm flipH="1">
            <a:off x="7214760" y="785880"/>
            <a:ext cx="1800" cy="55720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5929200" y="6396120"/>
            <a:ext cx="7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9"/>
          <p:cNvSpPr/>
          <p:nvPr/>
        </p:nvSpPr>
        <p:spPr>
          <a:xfrm>
            <a:off x="3575520" y="636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1"/>
          <p:cNvSpPr/>
          <p:nvPr/>
        </p:nvSpPr>
        <p:spPr>
          <a:xfrm>
            <a:off x="8003520" y="6396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1"/>
              <p:cNvSpPr txBox="1"/>
              <p:nvPr/>
            </p:nvSpPr>
            <p:spPr>
              <a:xfrm>
                <a:off x="2770200" y="2786040"/>
                <a:ext cx="19270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2"/>
              <p:cNvSpPr txBox="1"/>
              <p:nvPr/>
            </p:nvSpPr>
            <p:spPr>
              <a:xfrm>
                <a:off x="5446800" y="2795760"/>
                <a:ext cx="1312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7124760" y="2786040"/>
                <a:ext cx="2019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5"/>
              <p:cNvSpPr txBox="1"/>
              <p:nvPr/>
            </p:nvSpPr>
            <p:spPr>
              <a:xfrm>
                <a:off x="2602080" y="4214880"/>
                <a:ext cx="2433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5038560" y="4214880"/>
                <a:ext cx="2176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6"/>
              <p:cNvSpPr txBox="1"/>
              <p:nvPr/>
            </p:nvSpPr>
            <p:spPr>
              <a:xfrm>
                <a:off x="7358040" y="4214880"/>
                <a:ext cx="1649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1"/>
          <p:cNvSpPr/>
          <p:nvPr/>
        </p:nvSpPr>
        <p:spPr>
          <a:xfrm>
            <a:off x="0" y="2160"/>
            <a:ext cx="928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sample with composition 40% C,  6.7% H and 53.3% O had a molar mass 60 g mol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find the Empirical formula and also the molecular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1"/>
          <p:cNvSpPr/>
          <p:nvPr/>
        </p:nvSpPr>
        <p:spPr>
          <a:xfrm>
            <a:off x="142920" y="428760"/>
            <a:ext cx="9001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five: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use the empirical formula you just found ie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and follow the method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ix 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divide your given molar mass (60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by the molar mas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(30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214200" y="3714840"/>
            <a:ext cx="7929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Step seven: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multiply your empirical formula by 2 to get the molecular formula -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2 x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=   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4"/>
              <p:cNvSpPr txBox="1"/>
              <p:nvPr/>
            </p:nvSpPr>
            <p:spPr>
              <a:xfrm>
                <a:off x="928800" y="2571840"/>
                <a:ext cx="39481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iven molar 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empirical formula molar mas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5221440" y="2487600"/>
                <a:ext cx="23130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ater of Crystallisatio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hydrated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lts have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 in their structure eg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5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(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hydrated means with wa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means that each particle of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is surrounded by 5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se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 molecules are called the water of crystal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water in the structure can be removed by heating to form the anhydrous (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without wat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) salt ie Cu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Finding the Empirical Formula for a Hydrated salt by Gravimetric Analysi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 find the mass of H</a:t>
            </a:r>
            <a:r>
              <a:rPr b="0" lang="en-NZ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O in a hydrated (with water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irstly find the mass of the hydrated (with water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t strongly for 10 minutes cool then reweig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heat again and reweigh to check the salt is at constant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260360" y="191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18728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1763280" y="306864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059280" y="2781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drogen has a relative mass of 1 compared to 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4360" y="54936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5840" y="4572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hydrogen i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subtract the mass of the anhydrous(dry) salt from the hydrated(wet) sa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is will give you the water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n use your anhydrous salt mass and water mass to workout the empirical formula of the hydrated salt using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392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428760" y="285840"/>
            <a:ext cx="8215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empirical formula for a hydrated salt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ss of hydrated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salt = 2.58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ss of salt after heating to constant weight = 0.95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: 2.58g – 0.95g = 1.63g (mass of 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7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142920" y="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lculation for finding the empirical formula for a hydrated salt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X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658320" y="1357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06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6729840" y="13572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8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8480" y="18572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wo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Given masses find moles of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142920" y="1428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nd the Mr ‘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222120" y="1000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on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6500880" y="2143080"/>
                <a:ext cx="2643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055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2"/>
              <p:cNvSpPr txBox="1"/>
              <p:nvPr/>
            </p:nvSpPr>
            <p:spPr>
              <a:xfrm>
                <a:off x="2565360" y="2273400"/>
                <a:ext cx="33735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10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96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Rectangle 12"/>
          <p:cNvSpPr/>
          <p:nvPr/>
        </p:nvSpPr>
        <p:spPr>
          <a:xfrm>
            <a:off x="151200" y="314316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three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0" y="3571920"/>
            <a:ext cx="350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smaller numb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ow divide each of thes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is smaller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14"/>
          <p:cNvSpPr/>
          <p:nvPr/>
        </p:nvSpPr>
        <p:spPr>
          <a:xfrm>
            <a:off x="3951360" y="2357280"/>
            <a:ext cx="1857240" cy="857520"/>
          </a:xfrm>
          <a:prstGeom prst="ellipse">
            <a:avLst/>
          </a:pr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3071880" y="3714840"/>
                <a:ext cx="26146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6310440" y="3786120"/>
                <a:ext cx="28335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055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89622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TextBox 17"/>
          <p:cNvSpPr/>
          <p:nvPr/>
        </p:nvSpPr>
        <p:spPr>
          <a:xfrm>
            <a:off x="0" y="565776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ake small adjust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give whole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o give empirical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8"/>
          <p:cNvSpPr/>
          <p:nvPr/>
        </p:nvSpPr>
        <p:spPr>
          <a:xfrm>
            <a:off x="292320" y="5357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66ff33"/>
                </a:solidFill>
                <a:uFillTx/>
                <a:latin typeface="Arial"/>
              </a:rPr>
              <a:t>Step four :</a:t>
            </a: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25"/>
          <p:cNvSpPr/>
          <p:nvPr/>
        </p:nvSpPr>
        <p:spPr>
          <a:xfrm>
            <a:off x="3802320" y="85716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27"/>
          <p:cNvSpPr/>
          <p:nvPr/>
        </p:nvSpPr>
        <p:spPr>
          <a:xfrm>
            <a:off x="6937920" y="85716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25"/>
          <p:cNvSpPr/>
          <p:nvPr/>
        </p:nvSpPr>
        <p:spPr>
          <a:xfrm>
            <a:off x="4024080" y="5643720"/>
            <a:ext cx="171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 x Na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>
            <a:off x="6800760" y="5643720"/>
            <a:ext cx="107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10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5143680" y="6149880"/>
            <a:ext cx="2187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10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Concent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1194120"/>
            <a:ext cx="88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les per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n be in grams per litre but chemists usually express concentration in moles per li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This are related by the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n =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V = volume in lit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 = concentration in mol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4067280" y="4005360"/>
                <a:ext cx="12952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142920" y="35712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Write the formula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1. Moles using mass and Molar ma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2. Concentration using Volume and Mo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6"/>
              <p:cNvSpPr txBox="1"/>
              <p:nvPr/>
            </p:nvSpPr>
            <p:spPr>
              <a:xfrm>
                <a:off x="2214720" y="2286000"/>
                <a:ext cx="28810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"/>
              <p:cNvSpPr txBox="1"/>
              <p:nvPr/>
            </p:nvSpPr>
            <p:spPr>
              <a:xfrm>
                <a:off x="3289320" y="4713120"/>
                <a:ext cx="115884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Concentration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3760" y="1374480"/>
            <a:ext cx="862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5 grams of NaCl is dissolved in 1 litre of water, w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centration of the solution in moles per li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M NaCl = 58.5 gmol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nd moles of Na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moles by volume in 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4"/>
              <p:cNvSpPr txBox="1"/>
              <p:nvPr/>
            </p:nvSpPr>
            <p:spPr>
              <a:xfrm>
                <a:off x="1643040" y="3429000"/>
                <a:ext cx="50007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4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7"/>
              <p:cNvSpPr txBox="1"/>
              <p:nvPr/>
            </p:nvSpPr>
            <p:spPr>
              <a:xfrm>
                <a:off x="1285920" y="5429160"/>
                <a:ext cx="5786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64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litr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Concentration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65240" y="1374480"/>
            <a:ext cx="898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0 grams of NaOH is dissolved in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500mls of water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, wha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oncentration of the solution in moles per li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M NaOH = 40gmol</a:t>
            </a:r>
            <a:r>
              <a:rPr b="1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nd moles of Na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moles by volume in 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627200" y="3398760"/>
                <a:ext cx="50324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 m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7"/>
              <p:cNvSpPr txBox="1"/>
              <p:nvPr/>
            </p:nvSpPr>
            <p:spPr>
              <a:xfrm>
                <a:off x="1887480" y="5415120"/>
                <a:ext cx="458172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litr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0" y="420480"/>
            <a:ext cx="874872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olution 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5mls of 0.23 molL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is mixed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olution 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82 mls of O.15molL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f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at is the final concentration of the solution when they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nd total moles by adding moles of A to moles of B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Divide total moles by total volume in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li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42920" y="3000240"/>
                <a:ext cx="26686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mole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x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mol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7"/>
              <p:cNvSpPr txBox="1"/>
              <p:nvPr/>
            </p:nvSpPr>
            <p:spPr>
              <a:xfrm>
                <a:off x="173160" y="5908680"/>
                <a:ext cx="8470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05mo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7litre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86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9 mol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3214800" y="3071880"/>
                <a:ext cx="252072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mole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 xV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 mol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L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2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5892840" y="3071880"/>
                <a:ext cx="32511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  <m:r>
                          <m:rPr>
                            <m:lit/>
                            <m:nor/>
                          </m:rPr>
                          <m:t xml:space="preserve">  mo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oles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e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23moles 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05mo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Straight Connector 8"/>
          <p:cNvSpPr/>
          <p:nvPr/>
        </p:nvSpPr>
        <p:spPr>
          <a:xfrm flipH="1">
            <a:off x="2927520" y="3071880"/>
            <a:ext cx="1440" cy="2144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traight Connector 9"/>
          <p:cNvSpPr/>
          <p:nvPr/>
        </p:nvSpPr>
        <p:spPr>
          <a:xfrm flipH="1">
            <a:off x="5785920" y="3071880"/>
            <a:ext cx="1800" cy="21430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701720"/>
            <a:ext cx="1511280" cy="1871640"/>
          </a:xfrm>
          <a:prstGeom prst="rect">
            <a:avLst/>
          </a:prstGeom>
          <a:solidFill>
            <a:srgbClr val="99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16000" y="220500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260360" y="191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16000" y="292428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1763280" y="3068640"/>
            <a:ext cx="12956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059280" y="278136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xygen has a relative mass of 16 compared to carb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84360" y="54936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ve atomic Mass (Ar)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50920" y="4076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omic Sans MS"/>
              </a:rPr>
              <a:t>We say the relative atomic mass (Ar) of oxygen is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24000" y="515772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All of the relative atomic masses for all the atoms are found on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00040" y="1571760"/>
          <a:ext cx="8229600" cy="4330440"/>
        </p:xfrm>
        <a:graphic>
          <a:graphicData uri="http://schemas.openxmlformats.org/drawingml/2006/table">
            <a:tbl>
              <a:tblPr/>
              <a:tblGrid>
                <a:gridCol w="1800360"/>
                <a:gridCol w="3986280"/>
                <a:gridCol w="2442960"/>
              </a:tblGrid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Reaction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Text Box 3"/>
          <p:cNvSpPr/>
          <p:nvPr/>
        </p:nvSpPr>
        <p:spPr>
          <a:xfrm>
            <a:off x="395280" y="1052640"/>
            <a:ext cx="777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+       2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                          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+     2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3452760" y="1287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37"/>
          <p:cNvSpPr/>
          <p:nvPr/>
        </p:nvSpPr>
        <p:spPr>
          <a:xfrm>
            <a:off x="692928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7"/>
              <p:cNvSpPr txBox="1"/>
              <p:nvPr/>
            </p:nvSpPr>
            <p:spPr>
              <a:xfrm>
                <a:off x="785880" y="4000680"/>
                <a:ext cx="1100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Rectangle 78"/>
          <p:cNvSpPr/>
          <p:nvPr/>
        </p:nvSpPr>
        <p:spPr>
          <a:xfrm>
            <a:off x="903960" y="3286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80"/>
          <p:cNvSpPr/>
          <p:nvPr/>
        </p:nvSpPr>
        <p:spPr>
          <a:xfrm>
            <a:off x="3143160" y="4071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81"/>
          <p:cNvSpPr/>
          <p:nvPr/>
        </p:nvSpPr>
        <p:spPr>
          <a:xfrm>
            <a:off x="3071160" y="3286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500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82"/>
              <p:cNvSpPr txBox="1"/>
              <p:nvPr/>
            </p:nvSpPr>
            <p:spPr>
              <a:xfrm>
                <a:off x="2571840" y="4000680"/>
                <a:ext cx="166212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gmol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5" name="Text Box 83"/>
          <p:cNvSpPr/>
          <p:nvPr/>
        </p:nvSpPr>
        <p:spPr>
          <a:xfrm>
            <a:off x="4143240" y="42148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= 31.25 m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84"/>
          <p:cNvSpPr/>
          <p:nvPr/>
        </p:nvSpPr>
        <p:spPr>
          <a:xfrm>
            <a:off x="325584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6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87"/>
          <p:cNvSpPr/>
          <p:nvPr/>
        </p:nvSpPr>
        <p:spPr>
          <a:xfrm>
            <a:off x="1082520" y="257184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89"/>
          <p:cNvSpPr/>
          <p:nvPr/>
        </p:nvSpPr>
        <p:spPr>
          <a:xfrm>
            <a:off x="6684840" y="25718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cc"/>
                </a:solidFill>
                <a:latin typeface="Comic Sans MS"/>
              </a:rPr>
              <a:t>18 gmol </a:t>
            </a:r>
            <a:r>
              <a:rPr b="0" lang="en-NZ" sz="2400" spc="-1" strike="noStrike" baseline="30000">
                <a:solidFill>
                  <a:srgbClr val="00ffcc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36"/>
          <p:cNvSpPr/>
          <p:nvPr/>
        </p:nvSpPr>
        <p:spPr>
          <a:xfrm>
            <a:off x="3786120" y="49291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Box 43"/>
          <p:cNvSpPr/>
          <p:nvPr/>
        </p:nvSpPr>
        <p:spPr>
          <a:xfrm>
            <a:off x="928800" y="535788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 x moles of C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=  moles of 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44"/>
          <p:cNvSpPr/>
          <p:nvPr/>
        </p:nvSpPr>
        <p:spPr>
          <a:xfrm>
            <a:off x="393840" y="5877000"/>
            <a:ext cx="87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refore 2  x 31.25 moles     =   62.5 moles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49"/>
          <p:cNvSpPr/>
          <p:nvPr/>
        </p:nvSpPr>
        <p:spPr>
          <a:xfrm>
            <a:off x="7110000" y="1851120"/>
            <a:ext cx="75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51"/>
          <p:cNvSpPr/>
          <p:nvPr/>
        </p:nvSpPr>
        <p:spPr>
          <a:xfrm>
            <a:off x="3649680" y="1851120"/>
            <a:ext cx="70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C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How many grams of water vapour 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 will be produced i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complete combustion of 500g methane,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6215040" y="2928960"/>
            <a:ext cx="4248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62.5x18 =1,125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= 1.13kg H</a:t>
            </a:r>
            <a:r>
              <a:rPr b="1" lang="en-NZ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NZ" sz="24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642960" y="571680"/>
            <a:ext cx="8215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mework for Friday -  finish off all worksheet pages in booklet  except worksheet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est preparation for Mo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ad Unit 11 page 41 in your pathfinde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mplete all questions on page 42 and 43 before Mon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ee me before Monday if you are having any tr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24120" y="264960"/>
            <a:ext cx="89287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How many grams of water vapour 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 will be produced in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complete combustion of 500g methane,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	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Equation: C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4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+   2O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 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 CO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(g)   +   2H</a:t>
            </a:r>
            <a:r>
              <a:rPr b="0" i="1" lang="en-AU" sz="2400" spc="-1" strike="noStrike" baseline="-30000">
                <a:solidFill>
                  <a:srgbClr val="ffffff"/>
                </a:solidFill>
                <a:latin typeface="New York"/>
                <a:ea typeface="Times New Roman"/>
              </a:rPr>
              <a:t>2</a:t>
            </a:r>
            <a:r>
              <a:rPr b="0" i="1" lang="en-AU" sz="2400" spc="-1" strike="noStrike">
                <a:solidFill>
                  <a:srgbClr val="ffffff"/>
                </a:solidFill>
                <a:latin typeface="New York"/>
                <a:ea typeface="Times New Roman"/>
              </a:rPr>
              <a:t>O(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0-Periodic%20tabl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50920" y="1890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357120" y="1214280"/>
            <a:ext cx="828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Through numerous experiments Avogadro found that one mole  (ie 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atoms ,yes that is a very, very large numb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of any element equalled the relative atomic mass (Ar) in grams of each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This me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oxygen (O) atoms = 16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carbon (C) atoms = 12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hydrogen (H) atoms = 1 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6.02x10 </a:t>
            </a:r>
            <a:r>
              <a:rPr b="0" lang="en-NZ" sz="2400" spc="-1" strike="noStrike" baseline="30000">
                <a:solidFill>
                  <a:srgbClr val="ffffff"/>
                </a:solidFill>
                <a:latin typeface="Comic Sans MS"/>
              </a:rPr>
              <a:t>23</a:t>
            </a: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 sulfur (S) atoms = 32 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00040" y="214200"/>
            <a:ext cx="79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vogadro's 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260280"/>
            <a:ext cx="8928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ic Mass (Ar) and Molecular Mass (M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e can find the molecular mass (Mr) of a compound by adding the atomic mass (Ar) numbers of the atoms in a comp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Be aware that the terms atomic mass and molecular mass are also known as </a:t>
            </a:r>
            <a:r>
              <a:rPr b="0" lang="en-NZ" sz="3200" spc="-1" strike="noStrike">
                <a:solidFill>
                  <a:srgbClr val="00ffff"/>
                </a:solidFill>
                <a:latin typeface="Comic Sans MS"/>
              </a:rPr>
              <a:t>molar m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Ar and Mr are very similia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r = the relative atomic mass and is used for single atoms eg Ca, N, O etc in gmol</a:t>
            </a: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Eg The Ar of  Ca = 40 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r = the relative molecular mass of a substance and is the sum of the Ar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Eg 1 mole of H</a:t>
            </a: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= 1 + 1 = 2 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30000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g What is the Mr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?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(use your PT to find o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H = 2 )  +   (1 x O = 16) = 18gmol 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What is the Mr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(2 x H = 2)  +  (1 x S = 32)  +  (4 x O = 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-25000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2        +                32    +              64  =  98 gmol</a:t>
            </a:r>
            <a:r>
              <a:rPr b="0" lang="en-NZ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2:39:46Z</dcterms:created>
  <dc:creator>Ministry of Education</dc:creator>
  <dc:description/>
  <dc:language>en-US</dc:language>
  <cp:lastModifiedBy>Ministry of Education</cp:lastModifiedBy>
  <dcterms:modified xsi:type="dcterms:W3CDTF">2010-04-29T03:28:03Z</dcterms:modified>
  <cp:revision>1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